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27E-5901-4258-BD44-8E1CE3ED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03F-6258-4B77-9DD6-E9CCA2A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F68-5D5D-4E0E-A725-95E2AF8C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306-E865-4555-A721-FA4695B6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545-6187-4983-A19C-5D4CBA0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CEC-5B75-47C0-8FD5-94EF1A93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A5B-4017-4F11-88AF-0D74654F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03F-2076-4493-AA69-114352F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E84-53F3-4655-B72E-9AB5DC1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A6F0-1FBC-4A28-95A9-5951A67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FEE-0517-4D81-A330-90011E0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B4C-301C-4976-A80F-85BD2BE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formationssysteme SS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4-</a:t>
            </a:r>
            <a:fld id="{F975E944-E3DC-4EDC-8752-EE9BD1E452A0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apitel 4: Linkanalyse für Autoritäts-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3600" y="1981080"/>
            <a:ext cx="58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1 Page-Rank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2 Exkurs: Grundlagen aus der Stocha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3 HITS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4 Themenspezifisches Page-Rank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5B4-57E4-4021-BEBB-A63FC6AFDD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Page-Ranks im Kontext von Markov-Kette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000" y="1066680"/>
            <a:ext cx="876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ierung des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andom Walk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es Web-Surfers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olgen von Hyperlinks mit gleichverteilten Wahrschein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dom Jumps“ mit Wahrscheinlichkei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odische Markov-K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Page-Rank einer URL ist die stationä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swahrscheinlichkeit der URL für diese Markov-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allgemeinerungen sind denk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Random Walk mit Back-Button u.ä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4760" y="556272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ik am Page-Rank-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-Rank ist query-unabhängig und orthogonal zur Releva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2AF-98E9-426C-AF81-5FBCB17426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Beispiel: Page-Rank-Be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90720"/>
            <a:ext cx="7617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53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990720"/>
            <a:ext cx="7617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92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52388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06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7"/>
            <a:endCxn id="141" idx="1"/>
          </p:cNvCxnSpPr>
          <p:nvPr/>
        </p:nvCxnSpPr>
        <p:spPr>
          <a:xfrm flipH="1" rot="16200000">
            <a:off x="1942200" y="81720"/>
            <a:ext cx="2160" cy="197532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3"/>
            <a:endCxn id="143" idx="6"/>
          </p:cNvCxnSpPr>
          <p:nvPr/>
        </p:nvCxnSpPr>
        <p:spPr>
          <a:xfrm rot="5400000">
            <a:off x="2473560" y="1334160"/>
            <a:ext cx="345240" cy="56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3"/>
            <a:endCxn id="140" idx="2"/>
          </p:cNvCxnSpPr>
          <p:nvPr/>
        </p:nvCxnSpPr>
        <p:spPr>
          <a:xfrm flipV="1" rot="16200000">
            <a:off x="978120" y="1246320"/>
            <a:ext cx="456480" cy="1010520"/>
          </a:xfrm>
          <a:prstGeom prst="curvedConnector5">
            <a:avLst>
              <a:gd name="adj1" fmla="val -315"/>
              <a:gd name="adj2" fmla="val 50000"/>
              <a:gd name="adj3" fmla="val -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9" idx="6"/>
            <a:endCxn id="143" idx="1"/>
          </p:cNvCxnSpPr>
          <p:nvPr/>
        </p:nvCxnSpPr>
        <p:spPr>
          <a:xfrm>
            <a:off x="1066320" y="1257480"/>
            <a:ext cx="645480" cy="344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116600" y="10666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635040"/>
                <a:ext cx="2247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320" y="2666880"/>
                <a:ext cx="18795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60640" y="2666880"/>
                <a:ext cx="22352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325760" y="2666880"/>
                <a:ext cx="2286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9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694560" y="2666880"/>
                <a:ext cx="227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2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28240" y="5105520"/>
            <a:ext cx="270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0.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0.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0.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48960" y="6019920"/>
            <a:ext cx="54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3776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228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39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25760" y="4114800"/>
                <a:ext cx="2286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5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6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688080" y="4114800"/>
                <a:ext cx="227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1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836720" y="2492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13440" y="2492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1520" y="2492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64240" y="4005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805960" y="2492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805960" y="4005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1AD-74E4-47A8-9F5D-D9631598C2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4.3 HITS-Algorithmus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Hyperlink-Induced Topic Sear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7200" y="135576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i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34160" y="1719360"/>
            <a:ext cx="433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ute Inhaltsquellen: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großer in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ute Linkquellen: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großer outdegr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29440" y="1889280"/>
            <a:ext cx="304920" cy="45720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67680" y="17366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67680" y="19652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67680" y="21938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43640" y="18129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43640" y="2117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43640" y="227016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29440" y="2575080"/>
            <a:ext cx="152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29440" y="2803680"/>
            <a:ext cx="152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29440" y="3032280"/>
            <a:ext cx="152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91360" y="2651040"/>
            <a:ext cx="304920" cy="45720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343640" y="265104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3640" y="28796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9559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9360" y="33368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32360" y="3336840"/>
            <a:ext cx="66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sere Authorities mit guten Hubs als Vorgäng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sere Hubs mit guten Authorities als Nachfolg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6120" y="4191120"/>
            <a:ext cx="68907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Web-Graph G=(V,E) definiere für Knoten p, q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hority-Scor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ub-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28840" y="4919760"/>
                <a:ext cx="19558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28840" y="5605560"/>
                <a:ext cx="200664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482-1025-4AA2-A847-D958F61754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TS-Algorithmu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9320" y="213372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eration mit Adjazenz-Matrix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68560" y="2590920"/>
                <a:ext cx="2222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2590920"/>
                <a:ext cx="2120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777600" y="3200400"/>
            <a:ext cx="66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und y sind also Eigenvektoren von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zw. A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4920" y="72720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hority- und Hub-Scores in Matrix-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1295280"/>
                <a:ext cx="10666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114800" y="1371600"/>
                <a:ext cx="9525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756000" y="426708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 Interpre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38080" y="4724280"/>
                <a:ext cx="2057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th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9559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3800" y="4724280"/>
            <a:ext cx="522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Cocitation-Matrix: M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(auth)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zahl der Knoten, die auf i und j ze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888840" y="5653080"/>
                <a:ext cx="1955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ub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044880" y="5653080"/>
            <a:ext cx="600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Bibliographic-Coupling-Matrix: M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(hub)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zahl der Knoten, auf die i und j ze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CE0-6361-4A27-AB40-6CD89842AA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ierung des HITS-Algorith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33520"/>
            <a:ext cx="817560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hinreichend viele (z.B. 50-200) „Wurzelseiten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 Relevanz-Ranking (z.B. mittels tf*idf-Ra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ge alle Nachfolger von Wurzelseiten hin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ge für jede Wurzelseite max. d Vorgänger hin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durch It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uthority- und Hub-Scores dieser „Basismeng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von 1000-5000 S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Initialisierung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:= 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:= 1 / |Basismenge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Normalisierung nach jedem Sch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vergiert gegen die Eigenvektoren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ragsgrößten Eigenwert (falls dieser Multiplizität 1 h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b Seiten nach absteigend sortierten Authority-Score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die 10 größten Komponenten von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160" y="5867280"/>
            <a:ext cx="882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ik am HITS-Algorith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vanz-Ranking innerhalb der Wurzelmenge bleibt unberücksich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D69-F3A4-47FF-AAA2-E526AB0F14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esserter HITS-Algorith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6360" y="638280"/>
            <a:ext cx="7752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tentielle Schwachstellen des HITS-Algorith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rritierende Links (automatisch generierte Links, Spam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mendrift (z.B. von „Jaguar car“ zu „car“ gener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8160" y="1905120"/>
            <a:ext cx="8731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 von Kantengewi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 für Links auf demselben Ho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/k bei k Links von k URLs desselben Host zu 1 URL (xw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/m bei m Links von 1 URL zu m URLs desselben Host (ywe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ücksichtigung von thematischen Relevanzgewichten (z.B. tf*i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2360" y="3809880"/>
            <a:ext cx="3606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erative Berechnung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hority-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ub-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029040" y="4707000"/>
                <a:ext cx="5879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opi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xweight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09960" y="5392800"/>
                <a:ext cx="59054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opic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core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yweight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684-4D4E-49D8-8DE9-97F0ECA99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stimmung verwandter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7000" y="838080"/>
            <a:ext cx="76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citation-Algorith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bis zu B Vorgänger der gegebenen URL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n Vorgänger p bestimme bis zu BF Nachfolg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unter allen Geschwistern s von u diejen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r größten Anzahl von Vorgängern,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wohl auf s als auch auf u zeigen (Cocitation-Gr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4440" y="3505320"/>
            <a:ext cx="72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mpanion-Algorith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geeignete Basisme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ie gegebene URL u he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de den HITS-Algorithmus auf diese Basismenge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267-13FE-439C-B803-529EFDA4CA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Companion-Algorithmu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zur Bestimmung verwandter U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8280" y="1036800"/>
            <a:ext cx="934308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ung der Basismenge: u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s zu B Vorgänger von u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n Vorgänger p bis zu BF Nachfolg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s zu F Nachfolger von u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n Nachfolger c bis zu FB Vorgäng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limination von Stop-URLs (wie z.B. www.yahoo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plikatelimini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schmelze Knoten, die jeweils mehr als 10 Nachfolger h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mehr als 95 % ihrer Nachfolger gemeinsam h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 Authority-Scores mit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ten HITS-Algorith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663-2B04-4120-81D8-040BF1946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HITS-Algorithmus zur „Community Detection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840" y="838080"/>
            <a:ext cx="87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urzelmenge kann mehrere Themen bzw. „Communities“ beinhal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bei Queries „jaguar“, „Java“ oder „randomized algorith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600" y="2057400"/>
            <a:ext cx="762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ung der k betragsgrößten Eigenwerte von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er zugehörigen Eigenvektore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jedem dieser k Eigenvektoren x reflektiere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ößten Authority-Scores eine eng vernetzte „Community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444-1302-4921-A737-E0BA75528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8120" y="914400"/>
            <a:ext cx="1523880" cy="2895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HITS-Algorith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30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30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308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5640" y="3581280"/>
            <a:ext cx="1181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urz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568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828800" y="14479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8288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28800" y="1599840"/>
            <a:ext cx="1752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2895480"/>
            <a:ext cx="1828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514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1447920"/>
            <a:ext cx="431640" cy="1752480"/>
          </a:xfrm>
          <a:custGeom>
            <a:avLst/>
            <a:gdLst/>
            <a:ahLst/>
            <a:rect l="l" t="t" r="r" b="b"/>
            <a:pathLst>
              <a:path w="272" h="1104">
                <a:moveTo>
                  <a:pt x="0" y="0"/>
                </a:moveTo>
                <a:cubicBezTo>
                  <a:pt x="76" y="128"/>
                  <a:pt x="152" y="256"/>
                  <a:pt x="192" y="384"/>
                </a:cubicBezTo>
                <a:cubicBezTo>
                  <a:pt x="232" y="512"/>
                  <a:pt x="272" y="648"/>
                  <a:pt x="240" y="768"/>
                </a:cubicBezTo>
                <a:cubicBezTo>
                  <a:pt x="208" y="888"/>
                  <a:pt x="40" y="1048"/>
                  <a:pt x="0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62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88620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1600200"/>
            <a:ext cx="17524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14479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749160"/>
            <a:ext cx="3809880" cy="927360"/>
          </a:xfrm>
          <a:custGeom>
            <a:avLst/>
            <a:gdLst/>
            <a:ahLst/>
            <a:rect l="l" t="t" r="r" b="b"/>
            <a:pathLst>
              <a:path w="2400" h="584">
                <a:moveTo>
                  <a:pt x="0" y="584"/>
                </a:moveTo>
                <a:cubicBezTo>
                  <a:pt x="124" y="480"/>
                  <a:pt x="248" y="376"/>
                  <a:pt x="384" y="296"/>
                </a:cubicBezTo>
                <a:cubicBezTo>
                  <a:pt x="520" y="216"/>
                  <a:pt x="664" y="152"/>
                  <a:pt x="816" y="104"/>
                </a:cubicBezTo>
                <a:cubicBezTo>
                  <a:pt x="968" y="56"/>
                  <a:pt x="1144" y="16"/>
                  <a:pt x="1296" y="8"/>
                </a:cubicBezTo>
                <a:cubicBezTo>
                  <a:pt x="1448" y="0"/>
                  <a:pt x="1616" y="32"/>
                  <a:pt x="1728" y="56"/>
                </a:cubicBezTo>
                <a:cubicBezTo>
                  <a:pt x="1840" y="80"/>
                  <a:pt x="1888" y="112"/>
                  <a:pt x="1968" y="152"/>
                </a:cubicBezTo>
                <a:cubicBezTo>
                  <a:pt x="2048" y="192"/>
                  <a:pt x="2136" y="256"/>
                  <a:pt x="2208" y="296"/>
                </a:cubicBezTo>
                <a:cubicBezTo>
                  <a:pt x="2280" y="336"/>
                  <a:pt x="2368" y="368"/>
                  <a:pt x="2400" y="3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3809880" y="1752120"/>
            <a:ext cx="533520" cy="5105520"/>
          </a:xfrm>
          <a:custGeom>
            <a:avLst/>
            <a:gdLst>
              <a:gd name="textAreaLeft" fmla="*/ 0 w 533520"/>
              <a:gd name="textAreaRight" fmla="*/ 192600 w 5335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495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m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E99-22C2-4A13-9BE6-321DA8F72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erbessertes Ranking durch Autoritäts-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200" y="1143000"/>
            <a:ext cx="820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öheres Ranking von URLs mit hoher Autorität bzg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fang, Signifikanz, Aktualität und Korrektheit v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esserte Präzision von Suchresult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3040" y="3048120"/>
            <a:ext cx="817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ätze (mit Interpretation des Web als gerichtetem Graphen 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itation- oder Impact-Rank (q)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degree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ge-Rank (nach Lawrence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TS-Algorithmus (nach Jon Kleinbe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480" y="4800600"/>
            <a:ext cx="751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bination von Relevanz- und Autoritäts-Ran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ichtete Summe mit geeigneten Koeffizienten (Goo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itiales Relevanz-Ranking und 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 durch Autoritäts-Ranking (H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DDC-93A5-4D3A-8499-A0C041B2C4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4365720"/>
            <a:ext cx="914400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13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4.4 Themenspezifisches Page-Rank-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8920" y="609480"/>
            <a:ext cx="8762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verschiedene thematische Klassen (Sport, Musik, Jazz, etc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bei jede Klasse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urch eine Menge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schlägiger Autoritä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rakterisiert ist (z.B. aus Verzeichnissen von yahoo.com, dmoz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440" y="1905120"/>
            <a:ext cx="693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rnide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e den Random Walk durch themenspezif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dom-Jump-Wahrscheinlichkeiten für Seiten aus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920" y="3200400"/>
                <a:ext cx="3340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'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3693240" y="3200400"/>
            <a:ext cx="546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A'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/outdegree(i) für (i,j)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, 0 s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7339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(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/|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| für j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0 sonst (anstatt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/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4365720"/>
            <a:ext cx="8550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) Berechne für jede Klasse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hematische Page-Rank-Vektoren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Klassifiziere Query q (inkl. Kontext) bzgl.  Klasse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rscheinlichkeit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:= P[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| q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) Der Autoritäts-Score von Seite d 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19640" y="5805360"/>
                <a:ext cx="16002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6DA-0A5B-4DB0-8D15-296AB2144B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xperimentelle Evaluation: Qualitätsmaß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5440" y="549360"/>
            <a:ext cx="907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sierend auf  Stanford WebBase (120 Mio. Seiten, Jan.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hält ca. 300 000 von 3 Mio. Seiten aus dmoz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16 Themen der obersten Stufe von dmoz.or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k-Graph mit 80 Mio. Knoten und der Größe 4 G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 1.5 GHz Dual Athlon mit 2.5 GB Speicher und 500 GB R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5 Iterationen für alle 16+1 PR-Vektoren brauchen 20 Stunde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dom-Jump-W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esetzt auf 0.25 (themenspezifisch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5 Test-Queries, z.B.: classical guitar, lyme disease, sushi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" y="3657600"/>
            <a:ext cx="85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alitätsmaße: Betrachte Top-k zweier Ranglis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(k=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2240" y="4260960"/>
            <a:ext cx="74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Überlappung   OSi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= | top(k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op(k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| /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360" y="48006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Kendall's </a:t>
            </a:r>
            <a:r>
              <a:rPr b="1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    KSi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6200" y="5200560"/>
          <a:ext cx="8926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5200560"/>
                    <a:ext cx="8926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62400" y="6054840"/>
            <a:ext cx="38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U = top(k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op(k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992-4E08-453B-B4F1-0FB5B3B351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xperimentelle Resultat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9960" y="609480"/>
            <a:ext cx="79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glistenähnlichkeit zwischen den ähnlichsten PR Ve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573200"/>
            <a:ext cx="520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Games, Sports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No Bias, Regional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Kids&amp;Teens, Society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Health, Home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7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Health, Kids&amp;Teens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7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3600" y="106668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Sim    K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440" y="3429000"/>
            <a:ext cx="79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äzision für Top-10 (# relevante Dok. / 10) von 5 Benutz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78400" y="39625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   Themenspezif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19720"/>
            <a:ext cx="520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coholis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cycli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36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ath valley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28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58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29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160" y="6019920"/>
            <a:ext cx="53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cro averag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276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0.5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DB7-61A5-42B0-B765-8E0ED2D5C9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xperimentelle Resultat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0800" y="3429000"/>
            <a:ext cx="87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p-5 für Query-Kontext "blues" (Benutzer wählt Seite a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klassifiziert auf arts mit W. 0.52, shopping mit 0.12, news mit 0.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0" y="4267080"/>
            <a:ext cx="64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 Bia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r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24120" y="4683240"/>
            <a:ext cx="1071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 news.tucows.com               www.britannia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ww.baltimorepsych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www.emusic.com               www.bandhunt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ww.ncpamd.com/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3 www.johnholleman.com    www.artistinformation.com  www.ncpamd.com/Women's_Mental_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4 www.majorleaguebaseball  www.billboard.com        www.wingofmadnes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5 www.mp3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www.soul-patrol.com     www.countrynur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040" y="762120"/>
            <a:ext cx="90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p-3 für Query "bicycling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klassifiziert auf sports mit W. 0.52, regional mit 0.13, health mit 0.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0" y="160020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2092320"/>
            <a:ext cx="82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1 www.RailRiders.com   www.gorp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www.multisport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2 www.waypoint.org       www.GrownupCamps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www.BikeRacing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3 www.gorp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www.outdoor-pursuits.com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www.CycleCanad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A5-7E76-4CE2-A64D-26F17B1BD3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sönliche Page-Rank-We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9360" y="1989000"/>
            <a:ext cx="868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en u1 und u2 persönliche Präferenzvektoren (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dom-Jump-Ziele) und seien r1 und r2 die zugehö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ge-Rank-Vektoren. Dann gilt für all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 mi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=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r1 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r2 = (1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A‘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r1 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r2) 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u1 +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 u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3860640"/>
            <a:ext cx="882000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rol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einen Präferenzvektor u mit m von 0 verschiedenen Komponen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Basisvektoren 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(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1 für i=p, 0 für i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Konstan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                                   für den persönlichen Page-Rank-Vektor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71640" y="5013360"/>
          <a:ext cx="17650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013360"/>
                    <a:ext cx="1765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042920" y="5732640"/>
          <a:ext cx="1656000" cy="84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732640"/>
                    <a:ext cx="1656000" cy="84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19640" y="1413000"/>
                <a:ext cx="3340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'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22920" y="14842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ge-Rank-Gleich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0440" y="549360"/>
            <a:ext cx="907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iel: Effiziente Berechnung und Speicherung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zelne Benutzerpräferenzen zugeschnittener Page-Rank-Vek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F78-1681-4E6A-B2E4-A87313B8AC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4.1 Page-Rank r(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8200" y="1434960"/>
            <a:ext cx="79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35240" y="1511280"/>
                <a:ext cx="452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rPr>
                        <m:lit/>
                        <m:nor/>
                      </m:rPr>
                      <m:t xml:space="preserve">re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04920" y="546120"/>
            <a:ext cx="71596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geben: gerichteter Web-Graph G=(V,E) mit |V|=n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jazenzmatrix A: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 falls (i,j)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, 0 so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9640" y="2273400"/>
            <a:ext cx="816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f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58920" y="2349360"/>
                <a:ext cx="60832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rPr>
                        <m:lit/>
                        <m:nor/>
                      </m:rPr>
                      <m:t xml:space="preserve">re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461720" y="2276640"/>
            <a:ext cx="17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5360" y="5181480"/>
            <a:ext cx="8696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terative Berechnung von r(q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itialisierung mit r(q) := 1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 durch Auswerten der rekursiven Definitionsgle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vergiert typischerweise mit ca. 100 Iter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57720"/>
            <a:ext cx="771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tz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A‘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/outdegree(i) falls (i,j)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, 0 sonst,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98920" y="3724200"/>
          <a:ext cx="367200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8920" y="3724200"/>
                    <a:ext cx="3672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01600" y="3780000"/>
                <a:ext cx="221004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013040" y="4587840"/>
            <a:ext cx="74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.h. r ist Eigenvektor einer modifizierten Transitions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5BF-BC20-4BAC-A15B-522EC5DCE4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4.2 Exkurs: Markov-K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600" y="762120"/>
            <a:ext cx="875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ochastischer Prozeß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st eine Familie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fallsvariablen {X(t) | 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 heißt Parameterraum, und der Definitionsbereich M der X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ißt Zustandsraum. T und M können diskret oder kontinuierlich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9520" y="2514600"/>
            <a:ext cx="6960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stochastischer Prozeß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rkov-Prozeß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beliebige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...,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 dem Parameterraum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beliebige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...,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 dem Zustandsraum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74720" y="3809880"/>
                <a:ext cx="7848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9800" y="4267080"/>
                <a:ext cx="44830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81160" y="4876920"/>
            <a:ext cx="8874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Markov-Prozeß mit diskretem Zustandsraum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rkov-Ket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.B.d.A. werden die natürlichen Zahlen als Zustandsraum gewäh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tation für Markov-Ketten mit diskretem Parameterr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tt X(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mit n = 0, 1, 2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0E8-1BC3-417D-812B-DD09AD4C37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xkurs: Eigenschaften von Markov-Kett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it diskretem Parameterrau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3240" y="1676520"/>
            <a:ext cx="66214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omog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die Übergangswahrschein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ij := P[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j | 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i] unabhängig von n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800" y="10666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arkov-Kette Xn mit diskretem Parameterraum heiß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640" y="2590920"/>
            <a:ext cx="7081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rreduzibe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jeder Zustand von jedem Zustand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itiver Wahrscheinlichkeit erreichbar i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3200400"/>
                <a:ext cx="3187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884760" y="33526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all i,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1080" y="4114800"/>
            <a:ext cx="776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periodis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alle Zustände i die Periode 1 haben, wo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Periode von i der ggT aller Werte n ist, für die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3520" y="4952880"/>
                <a:ext cx="5803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7A0-3A9E-4B23-97F1-E28CA306B9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xkurs: Eigenschaften von Markov-Kett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it diskretem Parameterrau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0800" y="106668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arkov-Kette Xn mit diskretem Parameterraum heiß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" y="1828800"/>
            <a:ext cx="831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itiv rekurr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für jeden Zustand i die Rückkeh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rscheinlichkeit gleich 1 ist und mittlere Rekurrenzzeit endl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514600"/>
                <a:ext cx="6108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ü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" y="3276720"/>
                <a:ext cx="6451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ü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74760" y="4419720"/>
            <a:ext cx="7445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godis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sie homogen, irreduzibel, aperiodisch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itiv rekurrent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D7E-0447-497B-B492-7EFA88DB6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Resultate über Markov-Kette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it diskretem Parameterrau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" y="838080"/>
            <a:ext cx="66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die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-Schritt-Transitionswahrschein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47920" y="1295280"/>
                <a:ext cx="3441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028480" y="137160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7200" y="1905120"/>
                <a:ext cx="2552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276720" y="19810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114800" y="1905120"/>
                <a:ext cx="1320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19320" y="2590920"/>
                <a:ext cx="3873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78000" y="33526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rix-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048120" y="3276720"/>
                <a:ext cx="1244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80880" y="4114800"/>
            <a:ext cx="73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di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ustandswahrscheinlichkeiten nach n Sch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98640" y="4648320"/>
                <a:ext cx="2540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571280" y="47242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3520" y="5334120"/>
                <a:ext cx="24764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272040" y="533412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Anfangswahrscheinlichkei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620120" y="5257800"/>
                <a:ext cx="685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4320" y="60958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trix-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24080" y="6095880"/>
                <a:ext cx="21463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021360" y="5889600"/>
            <a:ext cx="1806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(Chapma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Kolmogorov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leich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E51-7D5C-4A04-9047-E62C356B1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2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Resultate über Markov-Kette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it diskretem Parameterrau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9360" y="838080"/>
            <a:ext cx="80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 homogene, irreduzible, aperiodische Markov-K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ndlich vielen Zuständen ist positiv rekurrent und ergod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48520" y="2286000"/>
                <a:ext cx="2057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47480" y="1981080"/>
            <a:ext cx="763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 ergodische Markov-Kette existi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ationäre Zustandswahrschein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sind unabhängig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urch das folgende lineare Gleichungssystem bestimmt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3581280"/>
                <a:ext cx="3073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le</m:t>
                    </m:r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90720" y="4191120"/>
                <a:ext cx="11682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54680" y="495288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Matrix-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mit 1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-Vekto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59280" y="5013360"/>
          <a:ext cx="1172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5013360"/>
                    <a:ext cx="1172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59280" y="5373720"/>
          <a:ext cx="9252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5373720"/>
                    <a:ext cx="9252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418280" y="3581280"/>
            <a:ext cx="2266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(Gleichgewicht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leich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CB8-6D37-4A33-918F-10EF23D54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Markov-K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9760" y="1371600"/>
            <a:ext cx="160020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3120" y="1523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: su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8040" y="1371600"/>
            <a:ext cx="160020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00680" y="15238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: clo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86680" y="1371600"/>
            <a:ext cx="1600200" cy="7621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38960" y="15238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: ra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3" idx="0"/>
            <a:endCxn id="115" idx="0"/>
          </p:cNvCxnSpPr>
          <p:nvPr/>
        </p:nvCxnSpPr>
        <p:spPr>
          <a:xfrm flipH="1" rot="16200000">
            <a:off x="3428280" y="153000"/>
            <a:ext cx="2160" cy="24390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3" idx="1"/>
            <a:endCxn id="113" idx="3"/>
          </p:cNvCxnSpPr>
          <p:nvPr/>
        </p:nvCxnSpPr>
        <p:spPr>
          <a:xfrm flipH="1" rot="16200000">
            <a:off x="1375200" y="1750680"/>
            <a:ext cx="540360" cy="2520"/>
          </a:xfrm>
          <a:prstGeom prst="curvedConnector5">
            <a:avLst>
              <a:gd name="adj1" fmla="val -62933"/>
              <a:gd name="adj2" fmla="val -20800000"/>
              <a:gd name="adj3" fmla="val -62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15" idx="4"/>
          </p:cNvCxnSpPr>
          <p:nvPr/>
        </p:nvCxnSpPr>
        <p:spPr>
          <a:xfrm rot="5400000">
            <a:off x="5865840" y="915120"/>
            <a:ext cx="2160" cy="2439000"/>
          </a:xfrm>
          <a:prstGeom prst="curvedConnector5">
            <a:avLst>
              <a:gd name="adj1" fmla="val 28580000"/>
              <a:gd name="adj2" fmla="val 50000"/>
              <a:gd name="adj3" fmla="val 285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5" idx="3"/>
            <a:endCxn id="113" idx="5"/>
          </p:cNvCxnSpPr>
          <p:nvPr/>
        </p:nvCxnSpPr>
        <p:spPr>
          <a:xfrm rot="5400000">
            <a:off x="3427560" y="1369080"/>
            <a:ext cx="2160" cy="1308960"/>
          </a:xfrm>
          <a:prstGeom prst="curvedConnector5">
            <a:avLst>
              <a:gd name="adj1" fmla="val 21400000"/>
              <a:gd name="adj2" fmla="val 49986"/>
              <a:gd name="adj3" fmla="val 21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7"/>
            <a:endCxn id="117" idx="6"/>
          </p:cNvCxnSpPr>
          <p:nvPr/>
        </p:nvCxnSpPr>
        <p:spPr>
          <a:xfrm flipH="1" rot="16200000">
            <a:off x="7634160" y="1499040"/>
            <a:ext cx="270360" cy="235800"/>
          </a:xfrm>
          <a:prstGeom prst="curvedConnector5">
            <a:avLst>
              <a:gd name="adj1" fmla="val -125866"/>
              <a:gd name="adj2" fmla="val 98623"/>
              <a:gd name="adj3" fmla="val -125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7" idx="5"/>
            <a:endCxn id="113" idx="4"/>
          </p:cNvCxnSpPr>
          <p:nvPr/>
        </p:nvCxnSpPr>
        <p:spPr>
          <a:xfrm rot="5400000">
            <a:off x="4874400" y="-643320"/>
            <a:ext cx="111960" cy="5442840"/>
          </a:xfrm>
          <a:prstGeom prst="curvedConnector5">
            <a:avLst>
              <a:gd name="adj1" fmla="val 767096"/>
              <a:gd name="adj2" fmla="val 50000"/>
              <a:gd name="adj3" fmla="val 767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5" idx="7"/>
            <a:endCxn id="117" idx="0"/>
          </p:cNvCxnSpPr>
          <p:nvPr/>
        </p:nvCxnSpPr>
        <p:spPr>
          <a:xfrm flipH="1" flipV="1" rot="5400000">
            <a:off x="6094080" y="489960"/>
            <a:ext cx="111960" cy="1873800"/>
          </a:xfrm>
          <a:prstGeom prst="curvedConnector5">
            <a:avLst>
              <a:gd name="adj1" fmla="val 305483"/>
              <a:gd name="adj2" fmla="val 50000"/>
              <a:gd name="adj3" fmla="val 30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59000" y="1546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5880" y="685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5080" y="1219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520" y="2057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6600" y="243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2200" y="182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5400" y="685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040" y="3316320"/>
            <a:ext cx="3806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0.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+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0.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0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+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0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0480" y="5181480"/>
            <a:ext cx="33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330/474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6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84/474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1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10/79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B41-3C68-4D12-8D45-9991DCF32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2:25:44Z</dcterms:created>
  <dc:creator>ESCOM Edition</dc:creator>
  <dc:description/>
  <dc:language>en-US</dc:language>
  <cp:lastModifiedBy>weikum</cp:lastModifiedBy>
  <dcterms:modified xsi:type="dcterms:W3CDTF">2004-04-09T19:45:49Z</dcterms:modified>
  <cp:revision>274</cp:revision>
  <dc:subject/>
  <dc:title>Kein Folientitel</dc:title>
</cp:coreProperties>
</file>